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55148-5D8D-4E56-A566-E2FD8230975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3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ake-off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moment when the model aircraft is released to start its ground roll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del aircraft must take off from the g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Ground roll and lift off segment: before lifting off the model aircraft should run along the ground f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tance of not less than 4.5 metres and not more than 1/4 of a lap. The lift-off should be smooth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aning without a "sudden jump" into the a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Climb out and levelling-off segment: the model aircraft should maintain a constant rate of climb u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ching a height of 1.5 metres. The point of changing from climbing flight to level flight should occ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actly overhead the point of release at the beginning of the Take-off ground roll. The change i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 should be smooth and gentle, with no sudden change/s in attitu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2 laps of upright level flight segment: after levelling off the model aircraft should maintain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and should fly 2 complete laps of stable and smooth normal upright flight, with no abru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hanges of attitude and without deviations of more than plus/minus 30 cm throughout this seg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) End of manoeuvre: at the end of the third lap, exactly overhead the point of beginning the take-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round ro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1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horizontal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4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when the model aircraft passes the intersection point 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when the model aircraft reaches a "vertical" climbing attitude for the first time this has defi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tersection point for the whole manoeuvre (that is: after 1/4 of the first loop of the first eight h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een flown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eight figure - first inside loop segment: from normal upright level flight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fly upwards along a circular flight path to a height of line elevation angle 45 degrees, at whi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it should be inverted. The model aircraft should continue its circular flight path downwar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thout interruption until reaching the normal upright level flight height of 1.5 metres, plus/minus 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m, at which point it should be upright. The model aircraft should then continue, without interruption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ts circular flight path for a further 1/4 of a loop until reaching the intersection point, at which point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be momentarily "vertical"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the intersection point first defined by the model aircraft at the beginning of thi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maintained throughout the whole of the manoeuvre. At the time of passing through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section point and transitioning to the first outside loop the model aircraft should be momentarily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 "vertical" nose up attitude but should not visibly travel in a "straight line", nor travel along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ing flight path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eight figure – the outside loop segment (actually 1 complete loop from the intersec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nwards): after passing through the intersection point the model aircraft should continue, with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ruption, to fly a complete outside loop by flying upwards along a circular flight path to a heigh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5 degrees line elevation angle, at which point the model aircraft should be upright.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continue its circular flight path downwards, without interruptions, until reaching the inve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height of 1.5 metres, plus/minus 30 cm, at which point it should be inverted.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then continue, without interruption, its circular flight path for a further 1/4 of a loop until reach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tersection point, at which point it should be momentarily "vertical"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complete eight figure: the model aircraft should follow a flight path exactly as set out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dividual segments above. The second figure eight should be flown in exactly the same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should be of exactly the same size as the first eight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End of manoeuvre: as the model aircraft completes the second eight figure, when pass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section point in a "vertical" climb for the fifth and la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after passing the intersection point for the last time, continue the circul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flight path for approximately a further 135 degrees of arc, then descend from this flight path in a dive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pproximately 45 degrees until levelling out into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2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horizontal square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4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with the model aircraft in normal upright level flight, from the point where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tarts its first turn upwards into a "vertical" climb 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when the model aircraft reaches a "vertical" climbing attitude for the first time, this has defi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tersection line for the whol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eight figure – the first climbing turn and "vertical" climbing segment of the first (inside) 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: the model aircraft should turn sharply into a "vertical" climb, reaching and maintaining a "stra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" flight path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eight figure - the second turn and top "horizontal" segment of the first (inside) square loop: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turn sharply into inverted level flight to reach a height of 45 degrees line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s it becomes inverted. This section should be parallel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first eight figure - the third turn and "vertical" dive segment of the first (inside) square loop: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turn sharply into a "vertical" dive, reaching and maintaining a "straight line"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th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first eight figure - the fourth turn and bottom "horizontal" segment of the first (inside) square loop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should turn sharply into smooth upright level flight, and this section should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rallel to the ground at a height of 1.5 metres, plus/minus 30 cm, The length of the whol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both turns, should be exactly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first eight figure - the first climbing turn and "vertical" climb segment of the second (outsid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quare loop: at the end of the previous segment (paragraph e) above), the model aircraft should 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arply into a "vertical" climb, reaching and maintaining a "straight line" flight path which is at r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gles to the ground. This flight path should be in exactly the same position as defined by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at the beginning of the manoeuvre (paragraph a) abov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The first eight figure - the second turn and top "horizontal" segment of the second (outside) 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: the model aircraft should turn sharply into upright level flight to reach a height of 45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 as it becomes level. The top segment should be flown with the flight path paralle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) The first eight figure - the third turn "vertical" dive segment of the second (outside) square loop: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turn sharply into a "vertical" dive, reaching and maintaining a "straight line"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th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) The first eight figure - the fourth turn and bottom "horizontal" segment of the second (outside) 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: the model aircraft should turn sharply into inverted smooth level flight, and this section should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rallel to the ground at a height of 1.5 metres plus/minus 30 cm. The length of the whol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both turns, should be exactly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j) The second eight figure: the model aircraft should follow a flight path exactly as set out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dividual segments above. The second eight figure should be flown in exactly the same position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 as the first eight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k) The final turn and last "vertical" climb exit from manoeuvre segment: at the end of the second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"horizontal" segment of the fourth loop the model aircraft should again turn sharply into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, reaching and maintaining a "straight line" flight path which is at right angles to the ground.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should be in exactly the same position as defined by the model aircraft at the start of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(paragraphs a) and b) abov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) End of manoeuvre: at the end of the last vertical climb segment, before turning into normal upright ex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at 45 degrees line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mplete a further 90 degrees turn into "straight line" upright level flight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 height of 45 degrees line angle. Maintain this level flight path parallel to the ground until clear of the 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hand side of the left hand loop by approximately 5.0 metres then make a turn into a dive of approximate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45 degrees nose down attitude. Recover into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3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vertical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90 degrees line elevation angle; width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, fly upwa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long a circular flight path to a height of line elevation angle 45 degrees. At this point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should be invert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fter the model aircraft has flown the first half of an inside loop, as it pass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rough the intersection point for the first time. Note: the intersection of the whole manoeuvre is define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hen the model aircraft passes through inverted level flight at a height of 45 degrees line elevation angl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eight figure - the first (inside loop) segment: as the model aircraft passes through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section point for the first time it should continue to fly a completely circular inside loop with no fl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ots or deviations. The bottom of this loop should be at a height of 1.5 metres, plus/minus 30 cm.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 should be completed by the model aircraft continuing this circular flight path until reaching 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verted attitude at a height of 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eight figure - the second (outside loop) segment: as it passes through the intersec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should continue without interruption, flying a completely circular outside loop with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at spots or deviations. The bottom of this second loop should be at a height of 45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 and the top should be at 90 degree line eleva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the flight path of this second loop should touch the intersection point, and this intersec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maintained throughout the entire manoeuvre. At the time of passing through the inters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and then transitioning into the second (outside) loop, the model aircraft should be momentarily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 level inverted flight attitude but should not visibly follow a "straight line" flight path. Neither should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climb nor dive during this momentary period of inverted flight. In addition, the centres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oth loops should be positioned on an imaginary line drawn upwards from the ground at right angl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eight figure: the model aircraft should follow a flight path exactly as set out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dividual segments above. The second figure eight should be flown in exactly the same position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 as the first eight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End of manoeuvre: as the model aircraft completes the second eight figure, at the moment when 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eaches inverted level flight at a height of 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for a further half inside loop until the model aircraft is upright at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height of 1.5 metres, and then continue in normal level upright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4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Hourglas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 each turn the model aircraft should change its angle of pitch attitude by approximately 120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90 degrees line elevation angle; width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from the point where the model aircraft starts its first turn into a climb for the fir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turn and inverted climb segment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model aircraft should sharply turn into, and then maintain an inverted climb with a "straight li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angled at approximately 30 degrees past right angles (relative to the ground). The clim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continued until a sharp outside turn that then results in the model aircraft follow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ngover manoeuvre flight path. That Wingover flight path should be positioned at 90 degrees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entre line axis of the whole manoeuvre and the middle point of this flight path should be positio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rectly above the centre of the circ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overhead second turn, wingover, and third turn segment: the "straight line" overhead Wingo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should be positioned at 90 degrees to the centre line axis of the whole manoeuvre and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d point of the flight path should be positioned directly over the centre of the circle. The length of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its two turns, should be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 This segment should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inished with a sharp outside turn through approximately 60 degrees into an inverted div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inverted dive segment: the model aircraft should turn sharply into, and then maintain, an inve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ve with a "straight line" flight path angled at approximately 60 degrees relative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intersection: the intersection of the "straight line" climb and the "straight line" dive flight path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at a height of 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The fourth turn and bottom level flight segment: the model aircraft should sharply turn into 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pright level flight at a height of 1.5 metres, plus/minus 30 cm. The length of this segment, inclu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wo turns, should be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) Symmetry of the complete manoeuvre: the figure should be flown symmetrically in relation to 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"vertical" centre line axis, and this centre line axis should be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) End of manoeuvre: at exactly the same point as the model aircraft started its first turn at the star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in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5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overhead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loop diameters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; lowest points of both loops at 45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the model aircraft should climb in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Wingover flight path to a point directly over the centre of the circ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s the model aircraft passes through the overhead point 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Note: the intersection point of the complete manoeuvre should be directly over the centre of the circ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should be maintained throughout this entir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complete (inside loop) segment: from the overhead position the model aircraft should fly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letely circular inside loop, returning to the overhead/intersection point. The right hand bottom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loop should all be at a height of 45 degrees line elevation angle. This loop should be positio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ymmetrically on an imaginary line on the face of the flying hemisphere which is drawn upwards at 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grees to the axis of the model aircraft’s Wingover climb to the intersection poin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passage through the intersection point and transition into the second (outside) loop segment: 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passes through the intersection/overhead point, it should smoothly transition in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cond (outside) loop without flat spots or deviations. At the point of flying directly above the centre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ircle the model aircraft should be momentarily in a "knife edge" position with a line elevation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90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second complete (outside loop) segment: from the overhead position the model aircraft shou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ition smoothly into the second completely circular (outside) loop, completing this loop when it h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gain returned to the overhead/inter-section point. The left hand bottom of this loop should be all at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eight of 45 degrees line elevation angle. Those bottoms should also all be positioned symmetrical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n an imaginary line on the face of the flying hemisphere which is drawn upwards at 90 degrees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xis of the model aircraft’s climb to the intersection point (paragraph c) abov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second eight figure: the model aircraft should fly the second eight figure exactly as set out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dividual segments above and this second eight figure should be flown in exactly the same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 as the first eight fig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End of manoeuvre: at the end of the second (outside) loop of the second eight figure, as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passes through the intersection poin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by completing most of the second (diving) half of the wingo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flight path that was used to start the manoeuvre. Then recover into normal upright level flight at 1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6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Four-leaf clover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90 degrees line elevation angle; width ¼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use ¾ of a lap to climb to a height of 42 degrees line elevation angle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maintain this height in upright level flight for 1/8</a:t>
            </a:r>
            <a:r>
              <a:rPr b="0" i="1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-152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art of manoeuvre: at the point of entry into the first (inside)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complete (inside) loop figure: "complete loop" (above) means a full circular loop of 3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grees. The top of this first loop should be tangential to the Wingover path located at 90 degree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entre line axis of the whole manoeuvre. The model aircraft should recover into upright level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t a height of 42 degrees line elevation angle. This loop should be positioned tangentially to 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maginary "vertical" line drawn upwards at right angles from the ground. The lateral position of thi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s determined when the model aircraft reaches a "vertical" attitude for the first time and this imagin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 then becomes the lateral reference for the whol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upright level flight at 42 degrees line elevation angle segment: at 42 degrees line elevation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should fly on an upright level flight path that is parallel to the ground. The length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segment should be equal to the diameter of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(outside) ¾ of a loop segment: " 3/4 of a loop" means a circular arc of 270 degrees. This 3/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 should be flown as a true arc without visible deviations from a circular flight path and th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at a height of 1.5 metres, plus/minus 30 cm. This ¾ loop should end with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ntering a "vertical" climb whose flight path is the same as the great circle line resulting from fly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first "vertical" climb segment: the model aircraft should climb "vertically" at right angles to grou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 length of this segment should be equal to the diameter of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third (outside) ¾ loop segment: this ¾ loop should be flown as a true arc without visible devi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rom a circular flight path and the bottom should be at a height of 42 degrees line elevation. This 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 should end with the model aircraft recovering to inverted level flight at a height of 42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The inverted level flight at 42 degrees line elevation angle segment : the model aircraft should foll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 inverted flight path which is parallel to the ground. The length of this segment should be equ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diameter of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) The fourth (inside) ¾ loop segment: this ¾ loop should be flown as a true arc without visible devi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rom a circular flight path and the bottom should be at a height of 1.5 metres, plus/minus 30 cm.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¾ loop should end with the model aircraft entering a "vertical" climb whose flight path is the same 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great circle line resulting from flying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) The second "vertical" climb segment: the model aircraft should climb "vertically" at right angle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ound and the length of this segment should be such that the model aircraft flies through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lete clover leaf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j) End of manoeuvre: at the end of the last "vertical" climb, as the model aircraft passes through a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rectly above the centre of the circ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the Wingover path from the last vertical climb (paragraph i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bove) into a "vertical dive, then recover into normal upright level flight at 1.5 metres. Other manoeuv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fter completion of the cloverleaf is permitted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.2.15.17.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Landing manoeuv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) Start of manoeuvre: as the model aircraft leaves a height of 1.5 metres, plus/minus 30 cm, and wi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 motor/s stopped (gliding flight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) The descent segment: the model aircraft should fly for 1 full gliding lap (power off condition), meas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rom the start of the descent at the 1.5 metres plus/minus 30 cm height, until the point of touchdow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 rate of descent should remain constant throughout this whole gliding lap, from the moment that 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eaves the 1.5 metres height until the moment that it touches down. The touch down itself should 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mooth and either a "2 point" or a "3 point" touch down shall be judged as being equally correc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) End of manoeuvre: when the model aircraft comes to a complete stop after touching down at the 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f the ground roll which is clearly in a forwards direction and in line with its normal flight motion.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ength of the ground roll shall not exceed one la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3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ake-off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moment when the model aircraft is released to start its ground roll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del aircraft must take off from the g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Ground roll and lift off segment: before lifting off the model aircraft should run along the ground f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tance of not less than 4.5 metres and not more than 1/4 of a lap. The lift-off should be smooth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aning without a "sudden jump" into the a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Climb out and levelling-off segment: the model aircraft should maintain a constant rate of climb u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ching a height of 1.5 metres. The point of changing from climbing flight to level flight should occ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actly overhead the point of release at the beginning of the Take-off ground roll. The change i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 should be smooth and gentle, with no sudden change/s in attitu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2 laps of upright level flight segment: after levelling off the model aircraft should maintain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and should fly 2 complete laps of stable and smooth normal upright flight, with no abru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hanges of attitude and without deviations of more than plus/minus 30 cm throughout this seg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) End of manoeuvre: at the end of the third lap, exactly overhead the point of beginning the take-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round ro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3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ake-off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moment when the model aircraft is released to start its ground roll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del aircraft must take off from the g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Ground roll and lift off segment: before lifting off the model aircraft should run along the ground f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tance of not less than 4.5 metres and not more than 1/4 of a lap. The lift-off should be smooth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aning without a "sudden jump" into the a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Climb out and levelling-off segment: the model aircraft should maintain a constant rate of climb u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ching a height of 1.5 metres. The point of changing from climbing flight to level flight should occ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actly overhead the point of release at the beginning of the Take-off ground roll. The change i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 should be smooth and gentle, with no sudden change/s in attitu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2 laps of upright level flight segment: after levelling off the model aircraft should maintain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and should fly 2 complete laps of stable and smooth normal upright flight, with no abru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hanges of attitude and without deviations of more than plus/minus 30 cm throughout this seg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) End of manoeuvre: at the end of the third lap, exactly overhead the point of beginning the take-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round ro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4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Reverse wing-over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t the beginning of the first turn from normal upright level flight into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"vertical" climb and dive segment: the model aircraft should turn sharply into a "vertical" clim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should then maintain a "straight line" climb that is at right angles to the ground. It should pa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rectly over the flyer’s head and then change into a "straight line" dive that is also at right angle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ground. This dive should continue until the second turn, which should sharply turn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from its dive into normal "straight line" inverted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inverted "horizontal" level flight segment: after recovery from the first "vertical" dive and until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art of the turn into the second "vertical" climb, the model aircraft should fly a segment of smoo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verted level flight segment which is parallel to the ground at a height of 1.5 metres, with no h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viations of more than plus/minus 30 cm, and with no abrupt changes in attitude. The length of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turns, should be 1/2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"vertical" climb and dive segment: the model aircraft should turn sharply into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 and should then maintain a "straight line" climb that is at right angles to the ground.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should pass directly over the flyer’s head and then change into a "straight line" dive that is als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t right angles to the ground. This dive should continue until the fourth turn, which should sharply 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from its dive into normal "straight line" upright level flight at a height of 1.5 metr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at height to be met within plus/minus 30 cm. The point where the model aircraft starts its recove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urn into normal upright level flight at the end of the whole manoeuvre should be exactly opposite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where the model aircraft first reached a "vertical" climb attitude at the start of the comple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End of manoeuvre: the end of the fourth turn (recovery to normal upright level flight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5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hree consecutive inside loops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 of a lap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start of the first loop, as the model aircraft departs normal upright level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The first loop figure: from normal upright level flight at 1.5 metres plus/minus 30 cm, the model aircra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fly smoothly upwards along a circular flight path until reaching a height of line elevation ang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5 degrees. At that point the model aircraft should be inverted. Without interruption the model aircra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continue its circular flight path downwards until passing the bottom of the loop at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plus/minus 30 cm, in upright flight. The whole flight path should be circular and smooth, with 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eviations and no flat spots. When the model aircraft reaches a "vertical" attitude for the first time th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as defined the lateral reference line for the whole manoeuvr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The second and third loop figures: the model aircraft should follow a flight path exactly as describ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bove. The second and third loops should be placed in exactly the same position as the first loop, 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End of manoeuvre: at the end of the third loop, as the model aircraft completes recovery into norm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the model aircraft should continue for another half loop, recover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inverted and descending to the normal inverted flight level within ½ a lap, remaining inverted at a heigh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.2.15.6.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wo consecutive laps of inverted level flight manoeuv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Recommended entry procedure: from inverted level flight at a height of 1.5 metr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) Start of manoeuvre: at the start of the third lap after the exit from the previous manoeuv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) 2 laps of inverted flight segment: the model aircraft should maintain 2 complete laps of smooth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able inverted flight at a height of 1.5 metres with no height deviations of more than plus/minus 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m, and with no abrupt changes of attitud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) End of manoeuvre: at the end of the fourth lap after the exit from the previous manoeuv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Recommended exit procedure: continue inverted flight, remaining at the normal level flight height of 1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metres until entry to the next manoeuvre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7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hree consecutive outside loops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 of a lap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ntry procedure: from inverted level flight at a height 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tart of manoeuvre: at the beginning of the first loop, as the model aircraft departs level inverted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The first loop figure: from level inverted flight at a height of 1.5 metres plus/minus 30 cm, the mod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ircraft should fly smoothly upwards along a circular flight path until reaching a height of line elev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ngle 45 degrees. At that point it should be upright. Without interruption the model aircraft shoul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ntinue its circular flight path downwards until passing the bottom height of 1.5 metres plus/minus 3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m, in inverted flight. The whole flight path should be circular and smooth, with no deviations and 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flat spots. When the model aircraft reaches a "vertical" attitude for the first time this has defined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ateral reference line for the whole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The second and third loop figures: the model aircraft should follow a flight path exactly as describ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bove. The second and third loops should be placed in exactly the same position as the first loop, 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End of manoeuvre: at the end of the third loop, as the model aircraft passes a height of 1.5 metres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lus/minus 30 cm, in inverted level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for another half loop, recovering to upright flight and th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descending to the normal upright level height 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8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inside square loop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t the point where the model aircraft begins its first turn into a "vertical" climb fr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rmal upright level fligh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First loop figure - first turn plus "vertical" climb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climb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First loop figure - second turn plus top "horizontal" segment: the model aircraft should turn sharp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o, and then steadily maintain inverted level flight at a height of 45 degrees line angle elevation.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evel portion of this flight path should be parallel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First loop figure - third turn plus "vertical" div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dive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First loop figure - fourth turn plus bottom "horizontal" segment: the model aircraft should sharply 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o, and then steadily maintain upright level flight at a height of 1.5 metres, plus/minus 30 cm,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evel portion of the flight path should be parallel to the ground and the total length of th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both turns, should be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second loop figure: the model aircraft should follow a flight path exactly as described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s above. The second loop should be placed in exactly the same position as the first loop,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End of manoeuvre: in normal upright level flight at a height of 1.5 metres, plus/minus 30 cm, at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where the model aircraft started its first turn into a "vertical" climb at the beginning of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maintain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9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outside square loop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use ¾ of a lap to climb to a height of 45 degrees line elevation angle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maintain this height in upright level flight for 1/8</a:t>
            </a:r>
            <a:r>
              <a:rPr b="0" i="1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t the point where the model aircraft begins its first turn into a "vertical" dive fr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First loop figure - first turn plus "vertical" div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dive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First loop figure - second turn plus bottom "horizontal" segment: the model aircraft should turn sharp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o, and then maintain smooth and steady inverted level flight at a height of 1.5 metres with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viating by more than plus/minus 30 cm. The level portion of this flight path should be parallel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ound and the total length of the bottom segment, including both turns, should be exactly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First loop figure - third turn plus "vertical" climb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climb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First loop figure - fourth turn plus top "horizontal"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 upright level flight at a height of 45 degrees line elevation angle. The le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rtion of this flight path should be parallel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second loop figure: the model aircraft should follow a flight path exactly as described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s above. The second loop should be placed in exactly the same position as the first loop,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End of manoeuvre: in upright level flight at a height of 45 degrees line elevation angle, at the s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where the model aircraft started its first turn at the beginning of the 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maintain upright level flight at a height of 45 degrees line elevation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for at least 1.0 metre after the end of the manoeuvre and then descend to the normal upright level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height (1.5 metres) within approximately 1/2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0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inside triangular loop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 In each tur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change its angle of pitch attitude by approximately 120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from the point in normal upright level flight where the model aircraft starts its fir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ur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First triangle figure – first turn and climb segment: the model aircraft should turn sharply into a "stra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" inverted climb and the angle of this flight path should be at 30 degrees beyond vertical in rel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o the ground. After completing the turn the model aircraft should maintain this flight path until star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second tur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First triangle figure – second turn and dive segment: the model aircraft turn sharply into a "stra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" inverted dive and the angle of this flight path should be at 60 degrees (that is: 30 degrees l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an vertical in relation to the ground). After completing the turn the model aircraft should maintain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until starting the third turn. The height reached during this second turn should not be mo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r less than a line elevation angle of 45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First triangle figure - third turn plus bottom "horizontal" segment: the aircraft should sharply turn into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pright "straight line" level flight at a height of 1.5 metres, plus/minus 30 cm. The length of all 3 sid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this triangular loop (including two turns per side) should be equal, and the bottom segmen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cluding both turns, should be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 in length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second triangular loop figure: the model aircraft should follow a flight path exactly as described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three segments above. The second loop should be placed in exactly the same position as the fir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, and should be of exactly the same siz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End of manoeuvre: with the model aircraft in normal upright level flight, at the point where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started its first turn at the start of the 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575BA-5A80-45C4-982D-4174CCC15D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1E1F5-2C1F-4CB4-953B-4108F6704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51064-C7D1-4CDB-9479-FE1C6FD7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053C2-2570-4FA0-86C2-BDAF089BD1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36564-9F23-4F9B-ADE1-DDE03C784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B1B95-B77C-4887-B4BF-3DE2C03F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10405-8C29-47AB-9DAE-A8D4551C4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5D3B0-1E35-49E2-B32D-C722884C5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B4AFA-62E7-4D52-A1D3-ACC997A2D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C9105-2EC3-4F16-8205-7AAB070C8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6DA95-23B3-42DF-B8B0-7BBC7FF31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A2852-F6EA-4DCA-A425-13B500F9A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DF351-96F4-4E4E-BBFC-B670ABFCEE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4000" y="907920"/>
            <a:ext cx="85341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654240" y="239760"/>
            <a:ext cx="216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IAM Subcommittee F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2B Work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987640" y="189000"/>
            <a:ext cx="275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F2B Judging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The Manoeuv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324000" y="115920"/>
          <a:ext cx="1079280" cy="66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15920"/>
                    <a:ext cx="107928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" name=""/>
          <p:cNvSpPr/>
          <p:nvPr/>
        </p:nvSpPr>
        <p:spPr>
          <a:xfrm>
            <a:off x="2835720" y="6286680"/>
            <a:ext cx="328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Eurochamps F2, July 2007, Belg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258920" y="784440"/>
            <a:ext cx="216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IAM Subcommittee F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ML Serenade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1778040" cy="1016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258920" y="2348640"/>
            <a:ext cx="489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421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2B Work Group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58920" y="3357720"/>
            <a:ext cx="6481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The Manoeuv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Presented by Massimo Semoli, CIAM Secretary/Delegate,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1989000"/>
            <a:ext cx="446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Eurochamps F2, July 2007, Belg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F2B Judging Worksh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635280" y="5157720"/>
          <a:ext cx="1584360" cy="98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35280" y="5157720"/>
                    <a:ext cx="1584360" cy="9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91DD4-9578-4DD5-A026-3E46CE005CB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283D8-DBCD-4D54-8BA1-9185100271D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530360" y="890640"/>
            <a:ext cx="6083280" cy="507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8E730-5DFD-40A7-AEA6-DB5F4F7E5A7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530360" y="890640"/>
            <a:ext cx="6083280" cy="507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9220B-3CA4-48DF-829F-0E74A278C44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523880" y="1455840"/>
            <a:ext cx="6094440" cy="3944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AE1DF-D041-4176-85EF-242BF42B065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979640" y="907920"/>
            <a:ext cx="5489640" cy="538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A174C-7E3B-423A-8EAB-1272D4B3DA7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530360" y="2255760"/>
            <a:ext cx="6083280" cy="2344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AFBC1-E79E-477C-9A37-D89F99E5E3D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58920" y="2060640"/>
            <a:ext cx="6481800" cy="24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The Manoeuv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Thank You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Presented by Massimo Semoli, CIAM Secretary/Delegate,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86A8F-6BD7-4001-82DA-B6DA1A81E8C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6083280" cy="2490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E10CF-62CE-4CD6-B352-C32826E667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30360" y="879480"/>
            <a:ext cx="6083280" cy="5097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85274-B7F1-4CE3-AB1D-6D3EEFABEA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A5D30-A212-4B82-B9A7-8939F92F5E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30360" y="1941480"/>
            <a:ext cx="6083280" cy="297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E09FC-A7EC-4834-80E4-0F0C0A9D8BC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5D09A-A15E-45DB-8097-0D96927A6AB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2E507-9698-4E40-B6D7-E41FC20628C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A388C-1AEF-4C47-A05E-D504969C815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0B6BA-E6A0-4AE8-A27B-303A784F711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15:11:36Z</dcterms:created>
  <dc:creator>Peter D. Germann</dc:creator>
  <dc:description/>
  <dc:language>en-US</dc:language>
  <cp:lastModifiedBy>Massimo Semoli</cp:lastModifiedBy>
  <dcterms:modified xsi:type="dcterms:W3CDTF">2007-07-04T00:24:01Z</dcterms:modified>
  <cp:revision>34</cp:revision>
  <dc:subject/>
  <dc:title>Folie 1</dc:title>
</cp:coreProperties>
</file>